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702F-D268-4CED-8BCF-6202F0B26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5B7F-792D-4A94-A021-1537EDE2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EFA1-CC5B-455B-959F-154371D14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688C-29FD-43C1-A6C6-70DEABC74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C1E2-A70F-4BE1-B8A0-74D88A5F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7FCF-EEB2-4C76-907B-02CCCDC3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1673-BD77-48FF-93D7-CD5FB288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3ECA-337E-471A-942D-127D319C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7D37-5E69-4996-949C-D591DD0C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8E4F-6EBB-4868-A8C0-7FF1F00B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EB95-F67A-4375-B3E3-7A51AB57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D4D5-2DD8-4404-BE30-ACB4EC2A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e5f2f7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1C42-82B3-45A5-BFC3-1A038E4E9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e5f2f7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3399"/>
                </a:solidFill>
                <a:latin typeface="Arial"/>
              </a:rPr>
              <a:t>Kuidas hakkavad Riigikogu alatised komisjonid andma arvamusi EL õigusaktide eelnõude koht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3cc"/>
                </a:solidFill>
                <a:latin typeface="Arial"/>
              </a:rPr>
              <a:t>Aaro Mõt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3cc"/>
                </a:solidFill>
                <a:latin typeface="Arial"/>
              </a:rPr>
              <a:t>Riigikogu Kantselei majandus- ja sotsiaalinfoosakonna juha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.01.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7A8F-1804-4838-95D0-0E52A0EC531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e5f2f7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3399"/>
                </a:solidFill>
                <a:latin typeface="Arial"/>
              </a:rPr>
              <a:t>Menetluse kä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3cc"/>
                </a:solidFill>
                <a:latin typeface="Arial"/>
              </a:rPr>
              <a:t>Nn korraldav istung (eelnõust teavitamine, arvamuse koostaja määramine, kuulami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3cc"/>
                </a:solidFill>
                <a:latin typeface="Arial"/>
              </a:rPr>
              <a:t>Ettevalmistatud arvamuse arutelu (võimalikud täiendavad kuulamised), arvamuse heakskiit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3cc"/>
                </a:solidFill>
                <a:latin typeface="Arial"/>
              </a:rPr>
              <a:t>Võimalik arvamuse lõplik heakskiit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.01.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4313-1021-4E71-B363-5882C48460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e5f2f7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3399"/>
                </a:solidFill>
                <a:latin typeface="Arial"/>
              </a:rPr>
              <a:t>Arvamuse vormistam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3cc"/>
                </a:solidFill>
                <a:latin typeface="Arial"/>
              </a:rPr>
              <a:t>Komisjon nõustub valitsuse seisukohtade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3cc"/>
                </a:solidFill>
                <a:latin typeface="Arial"/>
              </a:rPr>
              <a:t>Komisjon annab eelnõule üldhinnangu ja rõhutab olulisi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3cc"/>
                </a:solidFill>
                <a:latin typeface="Arial"/>
              </a:rPr>
              <a:t>Komisjoni annab detailsed juhi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.01.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1313-9F3D-4EC2-B6E5-067B07CD97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e5f2f7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t-EE" sz="4000" spc="-1" strike="noStrike">
                <a:solidFill>
                  <a:srgbClr val="003399"/>
                </a:solidFill>
                <a:latin typeface="Arial"/>
              </a:rPr>
              <a:t>Menetlus ELAK-s / väliskomisjon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3cc"/>
                </a:solidFill>
                <a:latin typeface="Arial"/>
              </a:rPr>
              <a:t>Arvamuse andmise aluseks on alatise komisjoni arvam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.01.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6B87-3699-4A40-82B7-383800AB92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e5f2f7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t-EE" sz="4000" spc="-1" strike="noStrike">
                <a:solidFill>
                  <a:srgbClr val="003399"/>
                </a:solidFill>
                <a:latin typeface="Arial"/>
              </a:rPr>
              <a:t>Süsteemi põhijoone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3cc"/>
                </a:solidFill>
                <a:latin typeface="Arial"/>
              </a:rPr>
              <a:t>Põhiseaduses ei ole sätteid, mis fikseeriksid Riigikogu pädevuse EL asj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3cc"/>
                </a:solidFill>
                <a:latin typeface="Arial"/>
              </a:rPr>
              <a:t>RKKS kohaselt hakkab Riigikogu võtma osa EL õigusaktide menetlemis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3cc"/>
                </a:solidFill>
                <a:latin typeface="Arial"/>
              </a:rPr>
              <a:t>Riigikogu nimel võtab seisukohti ELAK / väliskomisjon koostöös alatiste komisjonide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.01.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F2DF-9DB3-4E15-8C87-8B3A4002F6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e5f2f7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t-EE" sz="4000" spc="-1" strike="noStrike">
                <a:solidFill>
                  <a:srgbClr val="003399"/>
                </a:solidFill>
                <a:latin typeface="Arial"/>
              </a:rPr>
              <a:t>Milliste õigusaktide eelnõud esitataks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 u="sng">
                <a:solidFill>
                  <a:srgbClr val="0033cc"/>
                </a:solidFill>
                <a:uFillTx/>
                <a:latin typeface="Arial"/>
              </a:rPr>
              <a:t>I sammas</a:t>
            </a:r>
            <a:r>
              <a:rPr b="0" lang="et-EE" sz="3200" spc="-1" strike="noStrike">
                <a:solidFill>
                  <a:srgbClr val="0033cc"/>
                </a:solidFill>
                <a:latin typeface="Arial"/>
              </a:rPr>
              <a:t>: määrused, direktiivid, ots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 u="sng">
                <a:solidFill>
                  <a:srgbClr val="0033cc"/>
                </a:solidFill>
                <a:uFillTx/>
                <a:latin typeface="Arial"/>
              </a:rPr>
              <a:t>II sammas</a:t>
            </a:r>
            <a:r>
              <a:rPr b="0" lang="et-EE" sz="3200" spc="-1" strike="noStrike">
                <a:solidFill>
                  <a:srgbClr val="0033cc"/>
                </a:solidFill>
                <a:latin typeface="Arial"/>
              </a:rPr>
              <a:t>: põhimõtted, üldsuunised, ühisstrateegiad, ühismeetmed, ühisseisukohad, ots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 u="sng">
                <a:solidFill>
                  <a:srgbClr val="0033cc"/>
                </a:solidFill>
                <a:uFillTx/>
                <a:latin typeface="Arial"/>
              </a:rPr>
              <a:t>III sammas</a:t>
            </a:r>
            <a:r>
              <a:rPr b="0" lang="et-EE" sz="3200" spc="-1" strike="noStrike">
                <a:solidFill>
                  <a:srgbClr val="0033cc"/>
                </a:solidFill>
                <a:latin typeface="Arial"/>
              </a:rPr>
              <a:t>: ühisseisukohad, raamotsused, otsused, konventsioon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3cc"/>
                </a:solidFill>
                <a:latin typeface="Arial"/>
              </a:rPr>
              <a:t>Mu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.01.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4223-7FC5-4AE3-A054-EB61AB02B9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e5f2f7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t-EE" sz="4000" spc="-1" strike="noStrike">
                <a:solidFill>
                  <a:srgbClr val="003399"/>
                </a:solidFill>
                <a:latin typeface="Arial"/>
              </a:rPr>
              <a:t>Menetluse alg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3cc"/>
                </a:solidFill>
                <a:latin typeface="Arial"/>
              </a:rPr>
              <a:t>Menetlus komisjonis algab pärast seda, kui juhatus on teinud otsuse saata EL õigusakti eelnõu ELAK-le / väliskomisjonile ja asjaomasele alatisele komisjon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3cc"/>
                </a:solidFill>
                <a:latin typeface="Arial"/>
              </a:rPr>
              <a:t>Määratakse arvamuse andmise tähtae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.01.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079D-FE33-4512-80C0-7A1B752780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e5f2f7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t-EE" sz="4000" spc="-1" strike="noStrike">
                <a:solidFill>
                  <a:srgbClr val="003399"/>
                </a:solidFill>
                <a:latin typeface="Arial"/>
              </a:rPr>
              <a:t>Komisjoni arvamuse kujundamise aluseks olevad dokumendi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3cc"/>
                </a:solidFill>
                <a:latin typeface="Arial"/>
              </a:rPr>
              <a:t>EL õigusakti eelnõ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3cc"/>
                </a:solidFill>
                <a:latin typeface="Arial"/>
              </a:rPr>
              <a:t>Valitsuse seletuski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.01.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CE0E-E80D-4929-914E-3206DC8838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e5f2f7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3399"/>
                </a:solidFill>
                <a:latin typeface="Arial"/>
              </a:rPr>
              <a:t>Seletuskirjas sisalduv inf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3cc"/>
                </a:solidFill>
                <a:latin typeface="Arial"/>
              </a:rPr>
              <a:t>Eelnõu sisu kokkuvõ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3cc"/>
                </a:solidFill>
                <a:latin typeface="Arial"/>
              </a:rPr>
              <a:t>Eelnõu EL institutsioonides menetlemise k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3cc"/>
                </a:solidFill>
                <a:latin typeface="Arial"/>
              </a:rPr>
              <a:t>Mõj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3cc"/>
                </a:solidFill>
                <a:latin typeface="Arial"/>
              </a:rPr>
              <a:t>Valitsuse positsi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.01.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983F-BCF3-461C-B1C5-2FA615DE27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e5f2f7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t-EE" sz="4000" spc="-1" strike="noStrike">
                <a:solidFill>
                  <a:srgbClr val="003399"/>
                </a:solidFill>
                <a:latin typeface="Arial"/>
              </a:rPr>
              <a:t>Millest peavad komisjoniliikmed saama ülevaate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3cc"/>
                </a:solidFill>
                <a:latin typeface="Arial"/>
              </a:rPr>
              <a:t>Ülevaade kehtivast õigus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3cc"/>
                </a:solidFill>
                <a:latin typeface="Arial"/>
              </a:rPr>
              <a:t>EL pädev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3cc"/>
                </a:solidFill>
                <a:latin typeface="Arial"/>
              </a:rPr>
              <a:t>Majanduslikud, sotsiaalsed jmt mõj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.01.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F77D-3D1E-4C36-9336-51C0FB53D9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e5f2f7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3399"/>
                </a:solidFill>
                <a:latin typeface="Arial"/>
              </a:rPr>
              <a:t>Kas info on piisav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3cc"/>
                </a:solidFill>
                <a:latin typeface="Arial"/>
              </a:rPr>
              <a:t>Kui valitsuse seletuskirjas olev info ei ole piisav, tuleb kasutada täiendavaid infoallika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3cc"/>
                </a:solidFill>
                <a:latin typeface="Arial"/>
              </a:rPr>
              <a:t>isikute ärakuulamine (vastava ministeeriumi esindaja, sihtrühmade esindajad, eksperd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3cc"/>
                </a:solidFill>
                <a:latin typeface="Arial"/>
              </a:rPr>
              <a:t>Riigikogu Brüsseli esind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3cc"/>
                </a:solidFill>
                <a:latin typeface="Arial"/>
              </a:rPr>
              <a:t>Riigikogu Kantselei struktuuriüks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.01.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D4E4-B33A-49B9-A0DB-D24DFF81AF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e5f2f7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3399"/>
                </a:solidFill>
                <a:latin typeface="Arial"/>
              </a:rPr>
              <a:t>Komisjoni ülesan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3cc"/>
                </a:solidFill>
                <a:latin typeface="Arial"/>
              </a:rPr>
              <a:t>Komisjon teostab kontrolli (suunab, mõjutab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33cc"/>
                </a:solidFill>
                <a:latin typeface="Arial"/>
              </a:rPr>
              <a:t>valitsuse tegevust EL otsustus-, sh seadusloomeprotsessi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3cc"/>
                </a:solidFill>
                <a:latin typeface="Arial"/>
              </a:rPr>
              <a:t>Komisjon peaks hindama EL õigusakti eelnõu sisu ja valitsuse seisukohti poliitilisest (Eesti huvide) aspekt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.01.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CB64-E20E-446C-9510-5B281245ED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9T18:08:36Z</dcterms:created>
  <dc:creator>Aaro Mõttus</dc:creator>
  <dc:description/>
  <dc:language>en-US</dc:language>
  <cp:lastModifiedBy>Ametnik</cp:lastModifiedBy>
  <dcterms:modified xsi:type="dcterms:W3CDTF">2004-01-27T14:00:39Z</dcterms:modified>
  <cp:revision>13</cp:revision>
  <dc:subject/>
  <dc:title>Kuidas hakkavad Riigikogu alatised komisjonid andma arvamusi EL õigusaktide eelnõude kohta </dc:title>
</cp:coreProperties>
</file>