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3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22.png"/><Relationship Id="rId29" Type="http://schemas.openxmlformats.org/officeDocument/2006/relationships/image" Target="../media/image23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13.png"/><Relationship Id="rId37" Type="http://schemas.openxmlformats.org/officeDocument/2006/relationships/image" Target="../media/image14.png"/><Relationship Id="rId3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37.png"/><Relationship Id="rId14" Type="http://schemas.openxmlformats.org/officeDocument/2006/relationships/image" Target="../media/image42.png"/><Relationship Id="rId15" Type="http://schemas.openxmlformats.org/officeDocument/2006/relationships/image" Target="../media/image40.png"/><Relationship Id="rId16" Type="http://schemas.openxmlformats.org/officeDocument/2006/relationships/image" Target="../media/image41.png"/><Relationship Id="rId17" Type="http://schemas.openxmlformats.org/officeDocument/2006/relationships/image" Target="../media/image43.png"/><Relationship Id="rId18" Type="http://schemas.openxmlformats.org/officeDocument/2006/relationships/image" Target="../media/image44.png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37.png"/><Relationship Id="rId22" Type="http://schemas.openxmlformats.org/officeDocument/2006/relationships/image" Target="../media/image42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riigiteataja.ee/akt/12849034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riigiteataja.ee/akt/13152060" TargetMode="External"/><Relationship Id="rId2" Type="http://schemas.openxmlformats.org/officeDocument/2006/relationships/hyperlink" Target="https://www.riigiteataja.ee/akt/12888480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34920" y="1792080"/>
            <a:ext cx="67690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Times New Roman"/>
              </a:rPr>
              <a:t>Kohalike teede hoiu korraldamine. Kordusarut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476360" y="4365720"/>
            <a:ext cx="715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t-EE" sz="2000" spc="-1" strike="noStrike">
                <a:solidFill>
                  <a:srgbClr val="333399"/>
                </a:solidFill>
                <a:latin typeface="Times New Roman"/>
              </a:rPr>
              <a:t>22.04.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t-EE" sz="2000" spc="-1" strike="noStrike">
                <a:solidFill>
                  <a:srgbClr val="333399"/>
                </a:solidFill>
                <a:latin typeface="Times New Roman"/>
              </a:rPr>
              <a:t>Jüri Võigem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685800" cy="26672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6858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Eesti Linnade Liidu ja Eesti Maaomavalitsuste Liidu ettepanek eelarveläbirääkimisteks Valitsuskomisjoniga:</a:t>
            </a:r>
            <a:br>
              <a:rPr sz="2400"/>
            </a:br>
            <a:br>
              <a:rPr sz="2000"/>
            </a:br>
            <a:r>
              <a:rPr b="1" lang="et-EE" sz="2400" spc="-1" strike="noStrike" u="sng">
                <a:solidFill>
                  <a:srgbClr val="333399"/>
                </a:solidFill>
                <a:uFillTx/>
                <a:latin typeface="Times New Roman"/>
              </a:rPr>
              <a:t>Ettepanek 1.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Suurendada mootorkütuse aktsiisist teehoiuks kavandatud vahendite hulgast kohalikele teedele eraldatavaid vahendeid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2014. aastaks 20%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(30%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Eesti Linnade Liidu ja Eesti Maaomavalitsuste Liidu ettepanek eelarveläbirääkimisteks Valitsuskomisjoniga:</a:t>
            </a:r>
            <a:br>
              <a:rPr sz="2400"/>
            </a:br>
            <a:br>
              <a:rPr sz="2000"/>
            </a:br>
            <a:r>
              <a:rPr b="1" lang="et-EE" sz="2400" spc="-1" strike="noStrike" u="sng">
                <a:solidFill>
                  <a:srgbClr val="333399"/>
                </a:solidFill>
                <a:uFillTx/>
                <a:latin typeface="Times New Roman"/>
              </a:rPr>
              <a:t>Ettepanek 6.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EL struktuurivahendite programmiperioodi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2014-2020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 kavandamisel näha ette takistusteta liikumise projektide rahasta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Ettepanek :</a:t>
            </a:r>
            <a:br>
              <a:rPr sz="2400"/>
            </a:br>
            <a:br>
              <a:rPr sz="20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Muuta Teeseaduse § 16 lg 3 järgmiselt:</a:t>
            </a: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(3) Raha jaotus riigimaanteede hoiuks ning kohalike teede hoiuks määratakse igaks eelarveaastaks riigieelarves. Kohalike teede hoiuks nähakse riigieelarves ette kulud üldsummas, mille suurus vastab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vähemalt  30  protsendile käesoleva paragrahvi lõikes 2 nimetatud määras kütuste aktsiisi kavandatavast laekumisest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Taustainformatsiooniks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75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t-EE" sz="1800" spc="-1" strike="noStrike">
                <a:solidFill>
                  <a:srgbClr val="333399"/>
                </a:solidFill>
                <a:latin typeface="Times New Roman"/>
              </a:rPr>
              <a:t>Millised olid/on keskvalitsuse valikud majanduskriisist väljumisel </a:t>
            </a:r>
            <a:br>
              <a:rPr sz="1800"/>
            </a:br>
            <a:r>
              <a:rPr b="1" lang="et-EE" sz="1800" spc="-1" strike="noStrike">
                <a:solidFill>
                  <a:srgbClr val="333399"/>
                </a:solidFill>
                <a:latin typeface="Times New Roman"/>
              </a:rPr>
              <a:t>2009, 2010, 2011, 2012, 2013 </a:t>
            </a:r>
            <a:r>
              <a:rPr b="1" lang="et-EE" sz="1800" spc="-1" strike="noStrike">
                <a:solidFill>
                  <a:srgbClr val="00b0f0"/>
                </a:solidFill>
                <a:latin typeface="Times New Roman"/>
              </a:rPr>
              <a:t>(2014-2017) </a:t>
            </a:r>
            <a:r>
              <a:rPr b="1" lang="et-EE" sz="1800" spc="-1" strike="noStrike">
                <a:solidFill>
                  <a:srgbClr val="333399"/>
                </a:solidFill>
                <a:latin typeface="Times New Roman"/>
              </a:rPr>
              <a:t>KOV suunal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hart 1033" descr=""/>
          <p:cNvPicPr/>
          <p:nvPr/>
        </p:nvPicPr>
        <p:blipFill>
          <a:blip r:embed="rId1"/>
          <a:stretch/>
        </p:blipFill>
        <p:spPr>
          <a:xfrm>
            <a:off x="450720" y="1335240"/>
            <a:ext cx="8236080" cy="5198760"/>
          </a:xfrm>
          <a:prstGeom prst="rect">
            <a:avLst/>
          </a:prstGeom>
          <a:ln w="0">
            <a:noFill/>
          </a:ln>
        </p:spPr>
      </p:pic>
      <p:sp>
        <p:nvSpPr>
          <p:cNvPr id="65" name="Sirgkonnektor 6"/>
          <p:cNvSpPr/>
          <p:nvPr/>
        </p:nvSpPr>
        <p:spPr>
          <a:xfrm>
            <a:off x="4643280" y="2924280"/>
            <a:ext cx="4104000" cy="0"/>
          </a:xfrm>
          <a:prstGeom prst="line">
            <a:avLst/>
          </a:prstGeom>
          <a:ln w="38160">
            <a:solidFill>
              <a:srgbClr val="4cbb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770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t-EE" sz="1800" spc="-1" strike="noStrike">
                <a:solidFill>
                  <a:srgbClr val="333399"/>
                </a:solidFill>
                <a:latin typeface="Times New Roman"/>
              </a:rPr>
              <a:t>Kohalike omavalitsuste tulubaas 2007 -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8000" y="1125360"/>
          <a:ext cx="8891640" cy="5448600"/>
        </p:xfrm>
        <a:graphic>
          <a:graphicData uri="http://schemas.openxmlformats.org/drawingml/2006/table">
            <a:tbl>
              <a:tblPr/>
              <a:tblGrid>
                <a:gridCol w="1920960"/>
                <a:gridCol w="939600"/>
                <a:gridCol w="898560"/>
                <a:gridCol w="939960"/>
                <a:gridCol w="955440"/>
                <a:gridCol w="1076400"/>
                <a:gridCol w="1079640"/>
                <a:gridCol w="1081080"/>
              </a:tblGrid>
              <a:tr h="28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KOV tuluba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Tulum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28 027 53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34 227 2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34 107 12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84 690 33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18 539 39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64 000 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22 000 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Tasandusfo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91 393 65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91 393 65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0 398 68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0 398 68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2 316 03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2 316 03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2 316 03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Maam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34 471 31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47 977 84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48 249 36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1 306 68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1 467 44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1 000 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5 000 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Kohalikud maksu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9 318 14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1 797 02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9 452 27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4 231 29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5 508 41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8 791 95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9 706 62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Keskkonnatasu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3 962 44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5 990 76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5 626 98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7 419 96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8 105 87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7 419 96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8 105 86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Tulubaasi täiend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 112 93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4 473 8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Tulubaas kokk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77 173 09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901 386 5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5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82 947 36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42 520 77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785 937 14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813 527 95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877 128 51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  <a:tr h="207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Tulubaas võrreldes </a:t>
                      </a:r>
                      <a:r>
                        <a:rPr b="1" lang="et-EE" sz="16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007. aastag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t-EE" sz="13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                        </a:t>
                      </a: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%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6,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0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-4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4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2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                       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24 213 40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 774 26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-34 652 3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8 764 05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36 354 85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99 955 42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Tulubaas võrrelde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008. aastag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- %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-13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-17,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-12,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-9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-2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2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1" lang="et-EE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-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-118 439 13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-158 865 72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-115 449 35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-87 858 54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3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-24 257 98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t-EE" sz="2400" spc="-1" strike="noStrike">
              <a:solidFill>
                <a:srgbClr val="c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20640" y="2637000"/>
          <a:ext cx="7921800" cy="2282760"/>
        </p:xfrm>
        <a:graphic>
          <a:graphicData uri="http://schemas.openxmlformats.org/drawingml/2006/table">
            <a:tbl>
              <a:tblPr/>
              <a:tblGrid>
                <a:gridCol w="2124000"/>
                <a:gridCol w="681120"/>
                <a:gridCol w="681120"/>
                <a:gridCol w="679320"/>
                <a:gridCol w="598680"/>
                <a:gridCol w="630000"/>
                <a:gridCol w="733680"/>
                <a:gridCol w="598320"/>
                <a:gridCol w="598680"/>
                <a:gridCol w="596880"/>
              </a:tblGrid>
              <a:tr h="487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2</a:t>
                      </a:r>
                      <a:r>
                        <a:rPr b="1" lang="et-E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013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4</a:t>
                      </a:r>
                      <a:r>
                        <a:rPr b="1" lang="et-E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et-E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272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LUD KOKK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2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2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2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3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3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4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4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6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Tuluma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72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Tasandusfo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6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LUD KOKK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3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5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3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2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2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3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4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5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SSAPÕHINE TASAKA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0" name="Ristkülik 4"/>
          <p:cNvSpPr/>
          <p:nvPr/>
        </p:nvSpPr>
        <p:spPr>
          <a:xfrm>
            <a:off x="609480" y="15238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Kohaliku omavalitsuse üksuste eelarvete põhinäitajad (mln euro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t-EE" sz="2000" spc="-1" strike="noStrike">
                <a:solidFill>
                  <a:srgbClr val="0070c0"/>
                </a:solidFill>
                <a:latin typeface="Times New Roman"/>
              </a:rPr>
              <a:t>Üksikisiku tulumaks 2007-2013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1844640"/>
          <a:ext cx="8713800" cy="3805200"/>
        </p:xfrm>
        <a:graphic>
          <a:graphicData uri="http://schemas.openxmlformats.org/drawingml/2006/table">
            <a:tbl>
              <a:tblPr/>
              <a:tblGrid>
                <a:gridCol w="1944720"/>
                <a:gridCol w="900000"/>
                <a:gridCol w="923760"/>
                <a:gridCol w="935280"/>
                <a:gridCol w="912600"/>
                <a:gridCol w="1030320"/>
                <a:gridCol w="1033560"/>
                <a:gridCol w="1033560"/>
              </a:tblGrid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Üksikisiku tuluma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2012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2013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t-EE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ogn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t-EE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RM prognoos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Üksikisiku tuluma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628 027 5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734 227 2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634 107 1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584 690 3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618 539 3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664 0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722 0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11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11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1,57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Tulumaks võrreldes 2007. aasta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%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16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1,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6,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1,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5,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15,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                 €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106 199 6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6 079 5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43 337 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9 488 1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35 972 4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93 972 4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Tumaks võrreldes 2008. aasta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                </a:t>
                      </a: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- %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13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20,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15,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9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1,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                      </a:t>
                      </a: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- €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100 120 0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149 536 8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115 687 8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70 227 2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-12 227 2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istkülik 3"/>
          <p:cNvSpPr/>
          <p:nvPr/>
        </p:nvSpPr>
        <p:spPr>
          <a:xfrm>
            <a:off x="611280" y="1197000"/>
            <a:ext cx="8064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Tänan kuulamast ja edu kõigil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1" lang="et-EE" sz="2400" spc="-1" strike="noStrike">
                <a:solidFill>
                  <a:srgbClr val="0000cc"/>
                </a:solidFill>
                <a:latin typeface="Times New Roman"/>
              </a:rPr>
              <a:t>Teed ja tänavad on oluline osa igapäevaseks toimimiseks vajalikust tehnilisest taristust,</a:t>
            </a:r>
            <a:br>
              <a:rPr sz="2400"/>
            </a:br>
            <a:r>
              <a:rPr b="1" lang="et-EE" sz="2400" spc="-1" strike="noStrike">
                <a:solidFill>
                  <a:srgbClr val="0000cc"/>
                </a:solidFill>
                <a:latin typeface="Times New Roman"/>
              </a:rPr>
              <a:t>sh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kohalikud maanteed ja tänavad </a:t>
            </a: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cc"/>
                </a:solidFill>
                <a:latin typeface="Times New Roman"/>
              </a:rPr>
              <a:t>Kohalikud maanteed ja tänavad on mahukas osa kohalike omavalitsuste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põhivarast</a:t>
            </a:r>
            <a:r>
              <a:rPr b="1" lang="et-EE" sz="2400" spc="-1" strike="noStrike">
                <a:solidFill>
                  <a:srgbClr val="0000cc"/>
                </a:solidFill>
                <a:latin typeface="Times New Roman"/>
              </a:rPr>
              <a:t>;</a:t>
            </a: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0000cc"/>
                </a:solidFill>
                <a:latin typeface="Times New Roman"/>
              </a:rPr>
              <a:t>Põhivara funktsionaalseks toimimiseks ja püsimiseks tuleb arvestada selle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hooldus- ja investeeringuvajaduse kulude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Riigimaanteed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16 443 km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sh põhimaanteed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1 603 km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tugimaanteed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2 400 km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kõrvalmaanteed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12 440 km</a:t>
            </a: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Kohalikud teed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23 647 km</a:t>
            </a:r>
            <a:br>
              <a:rPr sz="2400"/>
            </a:b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sh maanteed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18 689 km</a:t>
            </a:r>
            <a:br>
              <a:rPr sz="2400"/>
            </a:b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tänavad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4 744 km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jalg- ja jalgrattateed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214 km</a:t>
            </a: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Era- ja metsateed*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18 398 km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Kokku: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58 487 k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278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Teeseadus</a:t>
            </a:r>
            <a:r>
              <a:rPr b="1" lang="et-EE" sz="2400" spc="-1" strike="noStrike" baseline="30000">
                <a:solidFill>
                  <a:srgbClr val="a50021"/>
                </a:solidFill>
                <a:latin typeface="Times New Roman"/>
              </a:rPr>
              <a:t>1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Vastu võetud 17.02.1999</a:t>
            </a: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§ 16.  Teehoiu rahastamine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 (1) Riigimaanteede teehoidu rahastatakse Vabariigi Valitsuse kinnitatud teehoiukava alusel.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(2) Teehoiu rahastamiseks nähakse riigieelarves ette kulud üldsummas,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mille suurus vastab vähemalt 75 protsendile kütuseaktsiisi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, välja arvatud erimärgistatud kütuste ja maagaasi aktsiisi, ning 25 protsendile erimärgistatud kütuste aktsiisi kavandatavast laekumisest.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0" lang="et-E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T I 2007, 45, 319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 - jõust. 01.01.2008] </a:t>
            </a:r>
            <a:br>
              <a:rPr sz="24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278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Teeseadus</a:t>
            </a:r>
            <a:r>
              <a:rPr b="1" lang="et-EE" sz="2400" spc="-1" strike="noStrike" baseline="30000">
                <a:solidFill>
                  <a:srgbClr val="a50021"/>
                </a:solidFill>
                <a:latin typeface="Times New Roman"/>
              </a:rPr>
              <a:t>1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Vastu võetud 17.02.1999</a:t>
            </a: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§ 16.  Teehoiu rahastamine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 (3)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Raha jaotus 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riigimaanteede hoiuks ning kohalike teede hoiuks määratakse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igaks eelarveaastaks riigieelarves.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0" lang="et-E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T I 2009, 15, 93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 - jõust. 01.03.2009] 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(4) Raha jaotuse käesoleva paragrahvi lõike 3 alusel riigimaanteede hoiuks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vajalike kulude vahel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, samuti kohalike teede hoiuks omavalitsusüksuste kaupa kinnitab Vabariigi Valitsus.</a:t>
            </a:r>
            <a:br>
              <a:rPr sz="24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0" lang="et-E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T I 2007, 63, 398</a:t>
            </a: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 - jõust. 01.01.2008] </a:t>
            </a:r>
            <a:br>
              <a:rPr sz="24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278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St:</a:t>
            </a:r>
            <a:br>
              <a:rPr sz="20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Ressurss kohalike teede hoiuks määratakse poliitilise otsusega </a:t>
            </a: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Riigikogu tasandil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istkülik 3"/>
          <p:cNvSpPr/>
          <p:nvPr/>
        </p:nvSpPr>
        <p:spPr>
          <a:xfrm>
            <a:off x="611280" y="1197000"/>
            <a:ext cx="8064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2997360"/>
          <a:ext cx="8713800" cy="1874520"/>
        </p:xfrm>
        <a:graphic>
          <a:graphicData uri="http://schemas.openxmlformats.org/drawingml/2006/table">
            <a:tbl>
              <a:tblPr/>
              <a:tblGrid>
                <a:gridCol w="2067120"/>
                <a:gridCol w="812880"/>
                <a:gridCol w="812520"/>
                <a:gridCol w="1033560"/>
                <a:gridCol w="812880"/>
                <a:gridCol w="811080"/>
                <a:gridCol w="739800"/>
                <a:gridCol w="811080"/>
                <a:gridCol w="812880"/>
              </a:tblGrid>
              <a:tr h="3744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Kütuseaktsiisist kohalikele teede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/E eraldises kohalikele teed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7 192 2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9 782 8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40 456 0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1 376 2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2 334 9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2 654 5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8 142 6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9 26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97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Kütuseaktsiisist %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6,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Kas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2 590 5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0 673 2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29 079 8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958 6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319 5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 488 1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1 122 3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Kasv %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3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-7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4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1,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istkülik 5"/>
          <p:cNvSpPr/>
          <p:nvPr/>
        </p:nvSpPr>
        <p:spPr>
          <a:xfrm>
            <a:off x="679320" y="2205000"/>
            <a:ext cx="382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100" spc="-1" strike="noStrike">
                <a:solidFill>
                  <a:srgbClr val="333399"/>
                </a:solidFill>
                <a:latin typeface="Times New Roman"/>
              </a:rPr>
              <a:t>R/E eraldised kohalikele teedel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t-EE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istkülik 3"/>
          <p:cNvSpPr/>
          <p:nvPr/>
        </p:nvSpPr>
        <p:spPr>
          <a:xfrm>
            <a:off x="611280" y="1197000"/>
            <a:ext cx="8064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Diagramm 4" descr=""/>
          <p:cNvPicPr/>
          <p:nvPr/>
        </p:nvPicPr>
        <p:blipFill>
          <a:blip r:embed="rId1"/>
          <a:stretch/>
        </p:blipFill>
        <p:spPr>
          <a:xfrm>
            <a:off x="749160" y="2060640"/>
            <a:ext cx="7425000" cy="3962160"/>
          </a:xfrm>
          <a:prstGeom prst="rect">
            <a:avLst/>
          </a:prstGeom>
          <a:ln w="0">
            <a:noFill/>
          </a:ln>
        </p:spPr>
      </p:pic>
      <p:sp>
        <p:nvSpPr>
          <p:cNvPr id="54" name="Ristkülik 5"/>
          <p:cNvSpPr/>
          <p:nvPr/>
        </p:nvSpPr>
        <p:spPr>
          <a:xfrm>
            <a:off x="7524720" y="3645000"/>
            <a:ext cx="287280" cy="187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istkülik 7"/>
          <p:cNvSpPr/>
          <p:nvPr/>
        </p:nvSpPr>
        <p:spPr>
          <a:xfrm>
            <a:off x="7308720" y="5686560"/>
            <a:ext cx="10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70c0"/>
                </a:solidFill>
                <a:latin typeface="Times New Roman"/>
              </a:rPr>
              <a:t>20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istkülik 8"/>
          <p:cNvSpPr/>
          <p:nvPr/>
        </p:nvSpPr>
        <p:spPr>
          <a:xfrm>
            <a:off x="7305840" y="2774880"/>
            <a:ext cx="792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70c0"/>
                </a:solidFill>
                <a:latin typeface="Times New Roman"/>
              </a:rPr>
              <a:t>29,3</a:t>
            </a:r>
            <a:r>
              <a:rPr b="1" lang="et-EE" sz="1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istkülik 3"/>
          <p:cNvSpPr/>
          <p:nvPr/>
        </p:nvSpPr>
        <p:spPr>
          <a:xfrm>
            <a:off x="3557880" y="2562120"/>
            <a:ext cx="650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100" spc="-1" strike="noStrike">
                <a:solidFill>
                  <a:srgbClr val="0070c0"/>
                </a:solidFill>
                <a:latin typeface="Times New Roman"/>
              </a:rPr>
              <a:t>40,5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278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Omavalitsusliitude seisukoht:</a:t>
            </a:r>
            <a:br>
              <a:rPr sz="2400"/>
            </a:br>
            <a:br>
              <a:rPr sz="2000"/>
            </a:br>
            <a:r>
              <a:rPr b="1" lang="et-EE" sz="2400" spc="-1" strike="noStrike">
                <a:solidFill>
                  <a:srgbClr val="333399"/>
                </a:solidFill>
                <a:latin typeface="Times New Roman"/>
              </a:rPr>
              <a:t>Riigimaanteede osakaal teede kogupikkusest moodustab ligikaudu 28,4 %, samal ajal kohalike teede ja tänavate osa 40,3 %. </a:t>
            </a:r>
            <a:br>
              <a:rPr sz="2400"/>
            </a:br>
            <a:br>
              <a:rPr sz="2400"/>
            </a:br>
            <a:r>
              <a:rPr b="1" lang="et-EE" sz="2400" spc="-1" strike="noStrike">
                <a:solidFill>
                  <a:srgbClr val="a50021"/>
                </a:solidFill>
                <a:latin typeface="Times New Roman"/>
              </a:rPr>
              <a:t>Senine teehoiuvahendite jaotus riigi ja kohalike teede vahel ei ole loogiline ega õiglane ega vasta teede olemil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yri</dc:creator>
  <dc:description/>
  <dc:language>en-US</dc:language>
  <cp:lastModifiedBy>vpold</cp:lastModifiedBy>
  <cp:lastPrinted>2013-04-22T08:07:16Z</cp:lastPrinted>
  <dcterms:modified xsi:type="dcterms:W3CDTF">2013-04-26T10:47:57Z</dcterms:modified>
  <cp:revision>154</cp:revision>
  <dc:subject/>
  <dc:title>ELL ja TTÜ KOOLITUSPROGRAMM “Koostöö ja tasakaalustatud arengu juhtimine” lõputöö  Kohaliku omavalitsuse üksuste koostöö üleriigilisel tasandil  lõputöö koostaja: Jüri Võigemast  esitatud: 23. mai 2006</dc:title>
</cp:coreProperties>
</file>