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E5F8-EC17-4DAC-9137-CD6AF621ECD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E43-F333-4CB2-9221-9958D8F4AC3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8D7-19BB-4F99-85EA-9FB4FAAC983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E75-94CF-44D9-B4EE-4713E1439BD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E75-BFD2-4C73-B7C7-B3923F18992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B92-A07B-4EF5-B53B-BF6D0405F17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06D6-0C3B-4F25-86C9-4D23247A843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4481-58FE-467A-99A2-0A5DC7A8193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2744-A37C-4F7E-B681-748DEB8E69E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F77-6E02-4166-B441-3ED65602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C09-789D-4324-9E2B-F7468C12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12E-4591-465F-85FD-8461ED64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6C7-2BE5-4C00-A6F3-F9C12B3E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01B-F0B2-48A5-A189-D2223B9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7D6-3FED-4EF9-BBB2-4CE26C9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CDE-572B-4CEC-B9FB-846F62C7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CD4-D1CB-4404-933F-0D97469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B73-80B3-4CE6-BC3C-D00FDA5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E81-EE04-4328-9B99-517CEAA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B7D-B81B-400B-B915-4981EB7A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84C-CCB5-4B5C-A90A-1BEB23A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B75-B194-46C9-BD19-D602224BDC3D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iigikontrolli 2010. aasta auditiaruanne „Kohalike teede hoiu korraldamine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anteeameti lühiülevaade hetkeolukor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3F9E-47AC-46C4-86EB-D5D9D1869603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Järelevalvealase tegevuse plaanid 2013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. aprillist 2013 keskuses järelevalve osak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OV teede seisundinõuete kontrollimine MA starteegiliseks eesmärgi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013 – 10 % KOV-s järelevalve menetlused läbi viid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014 –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015 – 5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013 märtsis-aprillis teostatud kontroll Tallinna tänavate seisundinõute täitmise ü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2013 komplekteerida järelevalve osakonnad keskuses ja regioon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talisem kohalike teede järelevalve teostamise kava pärast järelevalve osakondade moodustamise lõpuleviim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61D-F18F-43A5-91BC-1C81AA693103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Järelevalve osakonna peamised teg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Riiklik ehitusjärelevalve – avaliku tee ehitus- ja remonditööde nõuetele vastavuse kontroll, sh. 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riikliku teeregistri andmete õigsuse kontr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valikult kasutatava tee kasutamise järele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valikult kasutatava te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kaasaarvatud kohaliku te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isundinõuete tagamise järele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e-ehitusloa väljas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e kasutusloa väljas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gevuslubade väljas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C58-1D66-41F5-8FE4-337ED69DD573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Kohalike teede arvestus riiklikus teeregist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2420640"/>
            <a:ext cx="734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Riigikontrolli audit seisukoh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Arvestus kohalike teede üle on puudul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uditeeritu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mavalitsused on riiklikule teeregistrile jätnud esitamata hulga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andmeid, mis kohalike teede ja nendega seotud muude objektide kogumit kirjeldav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5440-3351-4680-8EB8-84AD8A65BA08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iiklikus teeregistris olevad 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halike teede 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Maanteeamet on aru saanud, e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 u="sng">
                <a:solidFill>
                  <a:srgbClr val="000000"/>
                </a:solidFill>
                <a:uFillTx/>
                <a:latin typeface="Arial"/>
              </a:rPr>
              <a:t>Eraldatavad rahalised vahendid on kohalike omavalitsuste jaoks teeregistrisse andmete esitamise ainukeseks motivaato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007-1E4F-4839-B6A6-CFD612170934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eeregistri kohustuslikud andmed kohalikele teed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Teede üldandmed ja asukoht – andmed on esitatud 100 % – </a:t>
            </a:r>
            <a:r>
              <a:rPr b="0" lang="et-EE" sz="2600" spc="-1" strike="noStrike" u="sng">
                <a:solidFill>
                  <a:srgbClr val="000000"/>
                </a:solidFill>
                <a:uFillTx/>
                <a:latin typeface="Arial"/>
              </a:rPr>
              <a:t>on teehoiu raha jagamise aluse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Katete andmed –  esitatud ca 95 % - </a:t>
            </a:r>
            <a:r>
              <a:rPr b="0" lang="et-EE" sz="2600" spc="-1" strike="noStrike" u="sng">
                <a:solidFill>
                  <a:srgbClr val="000000"/>
                </a:solidFill>
                <a:uFillTx/>
                <a:latin typeface="Arial"/>
              </a:rPr>
              <a:t>on tasandusfondist teede raha jagamise alus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Teede seisunditasemed – KOV-d andmeid ei esita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600" spc="-1" strike="noStrike" u="sng">
                <a:solidFill>
                  <a:srgbClr val="000000"/>
                </a:solidFill>
                <a:uFillTx/>
                <a:latin typeface="Arial"/>
              </a:rPr>
              <a:t>Seisunditasemed on olulised kontrolli teostamisel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jäänud andmed (</a:t>
            </a:r>
            <a:r>
              <a:rPr b="0" lang="et-EE" sz="2600" spc="-1" strike="noStrike" u="sng">
                <a:solidFill>
                  <a:srgbClr val="000000"/>
                </a:solidFill>
                <a:uFillTx/>
                <a:latin typeface="Arial"/>
              </a:rPr>
              <a:t>vajalikud eelkõige tee omaniku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) esitatud puudulikult - 10-50 % ulatuses erinevate andmeliikide kaup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BA8-957A-4AC4-AC42-5806384E238B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Maanteeameti registrialased  tegev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sitatakse regulaarselt järelepärimisi KOV-dele olemasolevate andmete muudatuste kohta ja puuduolevate andmete koh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7 ja 2011. aastatel on kõigile omavalitsustele saadetud Maanteeameti täielikud selgitused nii andmete kui ka nende esitamise koht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1BBE-E713-4E17-8384-E9874DDBB41F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Maanteeameti registrialased  </a:t>
            </a:r>
            <a:br>
              <a:rPr sz="3600"/>
            </a:b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egev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n valminud Maa-ameti ja Maanteeameti koostöös eraldi kaardirakendus KTTR ehk 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Arial"/>
              </a:rPr>
              <a:t>kohalike teede täpsustamise rake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anteeamet osaleb KOV liitude poolt korraldatud teeregistri alastel seminar-nõupidam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54EB-1D60-4588-B7CE-4149868B319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Maanteeameti kohustused ja õig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esea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hitusjärelevalvet tegeva ametiisiku ülesanne on kontroll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Arial"/>
              </a:rPr>
              <a:t>riikliku teeregistri andmete õigsus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uid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Arial"/>
              </a:rPr>
              <a:t>puudub õigus ettekirjutuste tegemisek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 u="sng">
                <a:solidFill>
                  <a:srgbClr val="000000"/>
                </a:solidFill>
                <a:uFillTx/>
                <a:latin typeface="Arial"/>
              </a:rPr>
              <a:t>ja sunniraha määramis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5DE1-3E77-41F7-9313-1BB56AA373B2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Arial"/>
              </a:rPr>
              <a:t>Kohalike teede seisundi</a:t>
            </a:r>
            <a:br>
              <a:rPr sz="4800"/>
            </a:br>
            <a:r>
              <a:rPr b="1" lang="et-EE" sz="4800" spc="-1" strike="noStrike">
                <a:solidFill>
                  <a:srgbClr val="000000"/>
                </a:solidFill>
                <a:latin typeface="Arial"/>
              </a:rPr>
              <a:t>üle järelevalve tegem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Riigikontrolli auditi seisuko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anteeamet käib kohalike teede seisundit kontrollimas ha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40C0-FA7C-40F8-9F3B-5326880578B0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2011-2012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teostatud järele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5 järelevalvemenetlust läbi viid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 ettekirjutus (Valga lin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65 KOV-s viinud läbi küsitluse teeseadusest tulenevate seisundinõuete täitmise 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helepanekud küsitlustest on järgnev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e seisunditasemed on kehtestatud umbes pooltes omavalitsustes (ettekirjutuse tegemiseks alus puudub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umbes pooled omavalitsused on kehtestanud teedele kõige madalama - 1 seisunditase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eisunditasemete kehtestamist ja nende täitmist ei pea vahendite nappuse tõttu võimalikuks umbes 20 % omavalitsusest, kes hindab teid läbitavuse järg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erioodilisi ülevaatusi teostatakse üldjuhul 1-2 korda aastas (kevadel-sügisel) ja reageeritakse liiklejate kaebustele, v.a suuremad ja jõukamad omavalitsused (peamiselt linnad), kes teostavad ülevaatusi sagedam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03D-EF19-43EC-8C82-55A94417CC8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6:50:02Z</dcterms:created>
  <dc:creator>Romet Rand</dc:creator>
  <dc:description/>
  <dc:language>en-US</dc:language>
  <cp:lastModifiedBy>vpold</cp:lastModifiedBy>
  <dcterms:modified xsi:type="dcterms:W3CDTF">2013-04-26T10:36:51Z</dcterms:modified>
  <cp:revision>290</cp:revision>
  <dc:subject/>
  <dc:title>Teema</dc:title>
</cp:coreProperties>
</file>