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9ad7"/>
                </a:solidFill>
                <a:latin typeface="Georgia"/>
              </a:rPr>
              <a:t>Click to move the slide</a:t>
            </a:r>
            <a:endParaRPr b="0" lang="en-US" sz="3600" spc="-1" strike="noStrike">
              <a:solidFill>
                <a:srgbClr val="1c9ad7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A795-CC22-4AF1-9187-2B45A275C7A3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180E-A3B3-435D-887A-6B1F3394D330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Valitsus on ise otsustanud, et kinnisvara valitsemine toimub RKAS kaudu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1E64-ED56-4F29-B7DA-C371900D4F70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Andmed seisuga aprill 201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200" spc="-1" strike="noStrike">
                <a:solidFill>
                  <a:srgbClr val="000000"/>
                </a:solidFill>
                <a:latin typeface="Calibri"/>
              </a:rPr>
              <a:t>RKAS-i portfellis on vaid 20% riigi kasutuses olevast pinna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RKAS-le üleandmise prognoositav maht on 200 000 m2 aast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Kui RMK ja KAM jäävad oma varasid ise majandama, </a:t>
            </a:r>
            <a:r>
              <a:rPr b="1" lang="et-EE" sz="1200" spc="-1" strike="noStrike">
                <a:solidFill>
                  <a:srgbClr val="000000"/>
                </a:solidFill>
                <a:latin typeface="Calibri"/>
              </a:rPr>
              <a:t>siis oleks võimalik üle anda 6-7 aastag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ADD4-83BA-4B7F-8599-1567B759210D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Ise haldamine paistab odav, kuid enamik kuludest on määramatu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RKAS-le üleandmisega ja üürimudelile üleminemisega muutuvad kulud nähtava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0BCC-77D4-41AC-9F03-7CC3F45D1DF2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Tegelik remondikulu saldoandmike järgi 9,3 mln aastas + RKAS-l 5,5 mln aast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FA0F-0B40-4E0E-8ADF-A45D5D65C8EB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ED27-3A89-424B-A6FC-B724E025BB06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C539-C08C-467E-8050-E3FC84129DCA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2DFA-B89F-42B6-A747-2B2A79A5B4F0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A27C-07C0-4D78-9147-D28FC67D215D}" type="slidenum">
              <a:rPr b="0" lang="et-E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C9F6B-767C-405F-B6C6-DF426DBBDD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9ad7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95280" y="3772080"/>
            <a:ext cx="84247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6DEDD-F8B6-4FC3-B758-C7E000F648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9ad7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95280" y="3772080"/>
            <a:ext cx="41112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2400" y="3772080"/>
            <a:ext cx="41112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2C0A3-10F2-4A36-BB5B-3D932C8CDD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9ad7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2712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3960" y="1197000"/>
            <a:ext cx="2712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2640" y="1197000"/>
            <a:ext cx="2712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5280" y="3772080"/>
            <a:ext cx="2712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3960" y="3772080"/>
            <a:ext cx="2712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2640" y="3772080"/>
            <a:ext cx="2712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73851-BD40-459E-9CE2-1F7DC5BCB5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9ad7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1197000"/>
            <a:ext cx="842472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9ad7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9ad7"/>
              </a:solidFill>
              <a:latin typeface="Georg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9ad7"/>
              </a:solidFill>
              <a:latin typeface="Georg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95280" y="274320"/>
            <a:ext cx="842472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9ad7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95280" y="3772080"/>
            <a:ext cx="41112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9ad7"/>
              </a:solidFill>
              <a:latin typeface="Georg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95280" y="1197000"/>
            <a:ext cx="842472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FB715-84DF-4E01-A54A-05E84F81B8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9ad7"/>
              </a:solidFill>
              <a:latin typeface="Georg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712400" y="3772080"/>
            <a:ext cx="41112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9ad7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5280" y="3772080"/>
            <a:ext cx="84247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9ad7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95280" y="3772080"/>
            <a:ext cx="84247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9ad7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5280" y="3772080"/>
            <a:ext cx="41112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712400" y="3772080"/>
            <a:ext cx="41112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9ad7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2712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43960" y="1197000"/>
            <a:ext cx="2712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2640" y="1197000"/>
            <a:ext cx="2712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5280" y="3772080"/>
            <a:ext cx="2712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43960" y="3772080"/>
            <a:ext cx="2712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92640" y="3772080"/>
            <a:ext cx="2712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9ad7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95280" y="1197000"/>
            <a:ext cx="842472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9ad7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9ad7"/>
              </a:solidFill>
              <a:latin typeface="Georg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9ad7"/>
              </a:solidFill>
              <a:latin typeface="Georg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9ad7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E1356-F438-41CA-A09C-36126691925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95280" y="274320"/>
            <a:ext cx="842472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9ad7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95280" y="3772080"/>
            <a:ext cx="41112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9ad7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712400" y="3772080"/>
            <a:ext cx="41112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9ad7"/>
              </a:solidFill>
              <a:latin typeface="Georg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95280" y="3772080"/>
            <a:ext cx="84247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9ad7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95280" y="3772080"/>
            <a:ext cx="84247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9ad7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5280" y="3772080"/>
            <a:ext cx="41112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712400" y="3772080"/>
            <a:ext cx="41112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9ad7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2712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43960" y="1197000"/>
            <a:ext cx="2712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2640" y="1197000"/>
            <a:ext cx="2712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395280" y="3772080"/>
            <a:ext cx="2712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43960" y="3772080"/>
            <a:ext cx="2712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92640" y="3772080"/>
            <a:ext cx="2712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9ad7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95280" y="1197000"/>
            <a:ext cx="842472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9ad7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9ad7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C30E7-1F83-49E5-8561-BB925279795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9ad7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9ad7"/>
              </a:solidFill>
              <a:latin typeface="Georgi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95280" y="274320"/>
            <a:ext cx="842472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9ad7"/>
              </a:solidFill>
              <a:latin typeface="Georg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95280" y="3772080"/>
            <a:ext cx="41112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9ad7"/>
              </a:solidFill>
              <a:latin typeface="Georg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12400" y="3772080"/>
            <a:ext cx="41112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9ad7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95280" y="3772080"/>
            <a:ext cx="84247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9ad7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95280" y="3772080"/>
            <a:ext cx="84247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9ad7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95280" y="3772080"/>
            <a:ext cx="41112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12400" y="3772080"/>
            <a:ext cx="41112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9ad7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2712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3960" y="1197000"/>
            <a:ext cx="2712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2640" y="1197000"/>
            <a:ext cx="2712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95280" y="3772080"/>
            <a:ext cx="2712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3960" y="3772080"/>
            <a:ext cx="2712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92640" y="3772080"/>
            <a:ext cx="2712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9ad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80F35-D630-4CF2-88EB-05CD08079D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95280" y="274320"/>
            <a:ext cx="842472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A89E5-85B9-4D64-8B41-4A2DB9F7C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9ad7"/>
              </a:solidFill>
              <a:latin typeface="Georg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95280" y="3772080"/>
            <a:ext cx="41112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B3858-D633-41CF-B5F2-D231F14262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9ad7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2400" y="3772080"/>
            <a:ext cx="41112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F9511-EFB2-4A1E-ACD9-C266805A7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9ad7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95280" y="3772080"/>
            <a:ext cx="84247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91D69-0E32-4918-A82D-0479222E11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9ad7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1c9ad7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1197000"/>
            <a:ext cx="84247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16720" y="6237000"/>
            <a:ext cx="502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t-EE" sz="1200" spc="-1" strike="noStrike">
                <a:solidFill>
                  <a:srgbClr val="1c9ad7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39FE-ED7B-49E8-97DF-72EEF3B1DC49}" type="slidenum">
              <a:rPr b="1" lang="et-EE" sz="1200" spc="-1" strike="noStrike">
                <a:solidFill>
                  <a:srgbClr val="1c9ad7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9ad7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1c9ad7"/>
              </a:solidFill>
              <a:latin typeface="Georg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95280" y="1197000"/>
            <a:ext cx="84247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9ad7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1c9ad7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95280" y="1197000"/>
            <a:ext cx="84247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9ad7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1c9ad7"/>
              </a:solidFill>
              <a:latin typeface="Georg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395280" y="1197000"/>
            <a:ext cx="84247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8560" y="1773000"/>
            <a:ext cx="788508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ffffff"/>
                </a:solidFill>
                <a:latin typeface="Georgia"/>
              </a:rPr>
              <a:t>Riigi kinnisvara ja </a:t>
            </a:r>
            <a:br>
              <a:rPr sz="4400"/>
            </a:br>
            <a:r>
              <a:rPr b="0" lang="et-EE" sz="4400" spc="-1" strike="noStrike">
                <a:solidFill>
                  <a:srgbClr val="ffffff"/>
                </a:solidFill>
                <a:latin typeface="Georgia"/>
              </a:rPr>
              <a:t>Riigi Kinnisvara AS</a:t>
            </a:r>
            <a:endParaRPr b="0" lang="en-US" sz="4400" spc="-1" strike="noStrike">
              <a:solidFill>
                <a:srgbClr val="1c9ad7"/>
              </a:solidFill>
              <a:latin typeface="Georg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31640" y="4941360"/>
            <a:ext cx="711972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ffffff"/>
                </a:solidFill>
                <a:latin typeface="Georgia"/>
              </a:rPr>
              <a:t>Rahandusministeeriumi riigivara osakond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ffffff"/>
                </a:solidFill>
                <a:latin typeface="Georgia"/>
              </a:rPr>
              <a:t>12.04.2013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Straight Connector 3"/>
          <p:cNvSpPr/>
          <p:nvPr/>
        </p:nvSpPr>
        <p:spPr>
          <a:xfrm>
            <a:off x="1547640" y="4653000"/>
            <a:ext cx="6480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76360" y="1773000"/>
            <a:ext cx="71280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Georgia"/>
              </a:rPr>
              <a:t>Tänan tähelepanu eest!</a:t>
            </a:r>
            <a:endParaRPr b="0" lang="en-US" sz="4400" spc="-1" strike="noStrike">
              <a:solidFill>
                <a:srgbClr val="1c9ad7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484280" y="4941360"/>
            <a:ext cx="712008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748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1c9ad7"/>
                </a:solidFill>
                <a:latin typeface="Georgia"/>
              </a:rPr>
              <a:t>Miks RKAS?</a:t>
            </a:r>
            <a:endParaRPr b="0" lang="en-US" sz="3600" spc="-1" strike="noStrike">
              <a:solidFill>
                <a:srgbClr val="1c9ad7"/>
              </a:solidFill>
              <a:latin typeface="Georgia"/>
            </a:endParaRPr>
          </a:p>
        </p:txBody>
      </p:sp>
      <p:pic>
        <p:nvPicPr>
          <p:cNvPr id="164" name="Content Placeholder 3" descr=""/>
          <p:cNvPicPr/>
          <p:nvPr/>
        </p:nvPicPr>
        <p:blipFill>
          <a:blip r:embed="rId1"/>
          <a:stretch/>
        </p:blipFill>
        <p:spPr>
          <a:xfrm>
            <a:off x="371520" y="1163520"/>
            <a:ext cx="846756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1c9ad7"/>
                </a:solidFill>
                <a:latin typeface="Georgia"/>
              </a:rPr>
              <a:t>Riigiasutuste kasutuses hooned, m</a:t>
            </a:r>
            <a:r>
              <a:rPr b="0" lang="et-EE" sz="3600" spc="-1" strike="noStrike">
                <a:solidFill>
                  <a:srgbClr val="1c9ad7"/>
                </a:solidFill>
                <a:latin typeface="Times New Roman"/>
                <a:ea typeface="Times New Roman"/>
              </a:rPr>
              <a:t>²</a:t>
            </a:r>
            <a:endParaRPr b="0" lang="en-US" sz="3600" spc="-1" strike="noStrike">
              <a:solidFill>
                <a:srgbClr val="1c9ad7"/>
              </a:solidFill>
              <a:latin typeface="Georgi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94920" y="907560"/>
            <a:ext cx="8497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c9a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468360" y="5013360"/>
            <a:ext cx="838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Georgia"/>
              </a:rPr>
              <a:t>Ei sisalda RKAS-le üle antud mittevajalikku vara ja teistele isikutele välja renditud RKAS-i va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Georgia"/>
              </a:rPr>
              <a:t>Kokku  2 220 000 m</a:t>
            </a:r>
            <a:r>
              <a:rPr b="1" lang="et-EE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Vajalik 1,6-2,0 miljonit m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Chart 8" descr=""/>
          <p:cNvPicPr/>
          <p:nvPr/>
        </p:nvPicPr>
        <p:blipFill>
          <a:blip r:embed="rId1"/>
          <a:stretch/>
        </p:blipFill>
        <p:spPr>
          <a:xfrm>
            <a:off x="1616040" y="901800"/>
            <a:ext cx="605952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1c9ad7"/>
                </a:solidFill>
                <a:latin typeface="Georgia"/>
              </a:rPr>
              <a:t>Kas RKAS on kallis?</a:t>
            </a:r>
            <a:endParaRPr b="0" lang="en-US" sz="3600" spc="-1" strike="noStrike">
              <a:solidFill>
                <a:srgbClr val="1c9ad7"/>
              </a:solidFill>
              <a:latin typeface="Georgi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95280" y="1197000"/>
            <a:ext cx="8424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c9a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71" name="Object 4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40744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1c9ad7"/>
                </a:solidFill>
                <a:latin typeface="Georgia"/>
              </a:rPr>
              <a:t>Probleemiks on ressursi nappus ja puudulik informatsioon</a:t>
            </a:r>
            <a:endParaRPr b="0" lang="en-US" sz="3600" spc="-1" strike="noStrike">
              <a:solidFill>
                <a:srgbClr val="1c9ad7"/>
              </a:solidFill>
              <a:latin typeface="Georgi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50560" y="1341360"/>
            <a:ext cx="8497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1c9a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Georgia"/>
              </a:rPr>
              <a:t>Hinnanguline kogukulu ca </a:t>
            </a:r>
            <a:r>
              <a:rPr b="1" lang="et-EE" sz="2400" spc="-1" strike="noStrike">
                <a:solidFill>
                  <a:srgbClr val="000000"/>
                </a:solidFill>
                <a:latin typeface="Georgia"/>
              </a:rPr>
              <a:t>250 mln € aasta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90840" indent="-265680">
              <a:spcBef>
                <a:spcPts val="499"/>
              </a:spcBef>
              <a:buClr>
                <a:srgbClr val="1c9ad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Georgia"/>
              </a:rPr>
              <a:t>Tegelikest kuludest ülevaade lünklik, koondpilt puudub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90840" indent="-265680">
              <a:spcBef>
                <a:spcPts val="499"/>
              </a:spcBef>
              <a:buClr>
                <a:srgbClr val="1c9ad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Georgia"/>
              </a:rPr>
              <a:t>Saldoandmike järgi kinnisvara jooksev kogukulu </a:t>
            </a:r>
            <a:r>
              <a:rPr b="1" lang="et-EE" sz="2000" spc="-1" strike="noStrike">
                <a:solidFill>
                  <a:srgbClr val="000000"/>
                </a:solidFill>
                <a:latin typeface="Georgia"/>
              </a:rPr>
              <a:t>78 mln </a:t>
            </a:r>
            <a:r>
              <a:rPr b="0" lang="et-EE" sz="2000" spc="-1" strike="noStrike">
                <a:solidFill>
                  <a:srgbClr val="000000"/>
                </a:solidFill>
                <a:latin typeface="Georgia"/>
              </a:rPr>
              <a:t>2012.a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90840" indent="-265680">
              <a:spcBef>
                <a:spcPts val="499"/>
              </a:spcBef>
              <a:buClr>
                <a:srgbClr val="1c9ad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Georgia"/>
              </a:rPr>
              <a:t>Investeeringud – eelkõige uute objektide ehitus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spcBef>
                <a:spcPts val="601"/>
              </a:spcBef>
              <a:buClr>
                <a:srgbClr val="1c9a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Georgia"/>
              </a:rPr>
              <a:t>Hinnanguline </a:t>
            </a:r>
            <a:r>
              <a:rPr b="0" lang="et-EE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remondikulu säilimise tagamiseks (eeldusel, et remondivõlg puudub), on kuni </a:t>
            </a:r>
            <a:r>
              <a:rPr b="1" lang="et-EE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84 mln € aasta</a:t>
            </a:r>
            <a:r>
              <a:rPr b="0" lang="et-EE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90840" indent="-265680">
              <a:spcBef>
                <a:spcPts val="451"/>
              </a:spcBef>
              <a:buClr>
                <a:srgbClr val="1c9ad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Vajalikud investeeringud remondivõla likvideerimiseks kuni </a:t>
            </a:r>
            <a:r>
              <a:rPr b="1" lang="et-EE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64 mln € aastas </a:t>
            </a:r>
            <a:r>
              <a:rPr b="0" lang="et-EE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(10 aasta jooksul vajab taastamist 40%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690840" indent="-265680">
              <a:spcBef>
                <a:spcPts val="451"/>
              </a:spcBef>
              <a:buClr>
                <a:srgbClr val="1c9ad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Georgia"/>
              </a:rPr>
              <a:t>Alates 01.01.2014  vajalik 3% pinnast aastas renoveerida  energiatõhususe miinimumnõuetele vastavaks, so kuni </a:t>
            </a:r>
            <a:r>
              <a:rPr b="1" lang="et-EE" sz="1800" spc="-1" strike="noStrike">
                <a:solidFill>
                  <a:srgbClr val="000000"/>
                </a:solidFill>
                <a:latin typeface="Georgia"/>
              </a:rPr>
              <a:t>72 mln € aastas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spcBef>
                <a:spcPts val="601"/>
              </a:spcBef>
              <a:buClr>
                <a:srgbClr val="1c9a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Georgia"/>
              </a:rPr>
              <a:t>RKAS on üks võimalik lahendus (mitte probleem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90840" indent="-265680">
              <a:spcBef>
                <a:spcPts val="499"/>
              </a:spcBef>
              <a:buClr>
                <a:srgbClr val="1c9ad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Georgia"/>
              </a:rPr>
              <a:t>Tsentraalne valitsemine kompetentsikeskuste kaudu on ka välisriikides levinud praktika ja tõestanud tõhusus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spcBef>
                <a:spcPts val="799"/>
              </a:spcBef>
              <a:buClr>
                <a:srgbClr val="1c9a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spcBef>
                <a:spcPts val="799"/>
              </a:spcBef>
              <a:buClr>
                <a:srgbClr val="1c9a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spcBef>
                <a:spcPts val="799"/>
              </a:spcBef>
              <a:buClr>
                <a:srgbClr val="1c9a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516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1c9ad7"/>
                </a:solidFill>
                <a:latin typeface="Georgia"/>
              </a:rPr>
              <a:t>RM väljakutse 2013-2014 on informatsiooni parandamine</a:t>
            </a:r>
            <a:endParaRPr b="0" lang="en-US" sz="3600" spc="-1" strike="noStrike">
              <a:solidFill>
                <a:srgbClr val="1c9ad7"/>
              </a:solidFill>
              <a:latin typeface="Georgia"/>
            </a:endParaRPr>
          </a:p>
        </p:txBody>
      </p:sp>
      <p:pic>
        <p:nvPicPr>
          <p:cNvPr id="175" name="Content Placeholder 3" descr=""/>
          <p:cNvPicPr/>
          <p:nvPr/>
        </p:nvPicPr>
        <p:blipFill>
          <a:blip r:embed="rId1"/>
          <a:stretch/>
        </p:blipFill>
        <p:spPr>
          <a:xfrm>
            <a:off x="1468440" y="1122480"/>
            <a:ext cx="5986440" cy="3894120"/>
          </a:xfrm>
          <a:prstGeom prst="rect">
            <a:avLst/>
          </a:prstGeom>
          <a:ln w="0">
            <a:noFill/>
          </a:ln>
        </p:spPr>
      </p:pic>
      <p:sp>
        <p:nvSpPr>
          <p:cNvPr id="176" name="TextBox 4"/>
          <p:cNvSpPr/>
          <p:nvPr/>
        </p:nvSpPr>
        <p:spPr>
          <a:xfrm>
            <a:off x="755640" y="508464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skne ülevaade riigi kinnisvararegistri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gevuste ja kulude juhti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t-E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ähtuvalt põhitegevuse  vajadus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5"/>
          <p:cNvSpPr/>
          <p:nvPr/>
        </p:nvSpPr>
        <p:spPr>
          <a:xfrm>
            <a:off x="5148360" y="1557360"/>
            <a:ext cx="39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innisvara tegevuste planeeri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6"/>
          <p:cNvSpPr/>
          <p:nvPr/>
        </p:nvSpPr>
        <p:spPr>
          <a:xfrm>
            <a:off x="6659640" y="3573360"/>
            <a:ext cx="24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Eelar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laneerimine ja täitm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7"/>
          <p:cNvSpPr/>
          <p:nvPr/>
        </p:nvSpPr>
        <p:spPr>
          <a:xfrm>
            <a:off x="250920" y="2276640"/>
            <a:ext cx="24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innisvara kasutus ja kulude planeeri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8497800" cy="12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1c9ad7"/>
                </a:solidFill>
                <a:latin typeface="Georgia"/>
              </a:rPr>
              <a:t>nn TOI strateegia</a:t>
            </a:r>
            <a:endParaRPr b="0" lang="en-US" sz="3600" spc="-1" strike="noStrike">
              <a:solidFill>
                <a:srgbClr val="1c9ad7"/>
              </a:solidFill>
              <a:latin typeface="Georgia"/>
            </a:endParaRPr>
          </a:p>
        </p:txBody>
      </p:sp>
      <p:pic>
        <p:nvPicPr>
          <p:cNvPr id="181" name="Content Placeholder 3" descr=""/>
          <p:cNvPicPr/>
          <p:nvPr/>
        </p:nvPicPr>
        <p:blipFill>
          <a:blip r:embed="rId1"/>
          <a:stretch/>
        </p:blipFill>
        <p:spPr>
          <a:xfrm>
            <a:off x="517680" y="1176480"/>
            <a:ext cx="8265960" cy="4389120"/>
          </a:xfrm>
          <a:prstGeom prst="rect">
            <a:avLst/>
          </a:prstGeom>
          <a:ln w="0">
            <a:noFill/>
          </a:ln>
        </p:spPr>
      </p:pic>
      <p:sp>
        <p:nvSpPr>
          <p:cNvPr id="182" name="TextBox 5"/>
          <p:cNvSpPr/>
          <p:nvPr/>
        </p:nvSpPr>
        <p:spPr>
          <a:xfrm>
            <a:off x="611280" y="566100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steeringud optimeeritud portfelli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4978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1c9ad7"/>
                </a:solidFill>
                <a:latin typeface="Georgia"/>
              </a:rPr>
              <a:t>RM ettepanek eelarveotsusteks: investeeringutaotlused </a:t>
            </a:r>
            <a:endParaRPr b="0" lang="en-US" sz="3600" spc="-1" strike="noStrike">
              <a:solidFill>
                <a:srgbClr val="1c9ad7"/>
              </a:solidFill>
              <a:latin typeface="Georgi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9280" y="112500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1c9a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Georgia"/>
              </a:rPr>
              <a:t>Eelistada remonti uusehitustele (kui see on majanduslikult põhjendatud), et tagada vara säilimine ja vastavusse viimine energiatõhususe miinimumnõueteg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spcBef>
                <a:spcPts val="700"/>
              </a:spcBef>
              <a:buClr>
                <a:srgbClr val="1c9a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Georgia"/>
              </a:rPr>
              <a:t>Eelistada arendusprojekte, millega saavutatakse suurem energiatõhusus (vastavus liginullenergia nõuetele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spcBef>
                <a:spcPts val="700"/>
              </a:spcBef>
              <a:buClr>
                <a:srgbClr val="1c9a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Georgia"/>
              </a:rPr>
              <a:t>Eelistada investeerimist RKAS-i kaudu tagamaks piiratud ressursside täpne paigutu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spcBef>
                <a:spcPts val="700"/>
              </a:spcBef>
              <a:buClr>
                <a:srgbClr val="1c9a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Georgia"/>
              </a:rPr>
              <a:t>Eelistada valitsemisalasid, kes on rakendanud meetmeid kulude optimeerimisek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spcBef>
                <a:spcPts val="799"/>
              </a:spcBef>
              <a:buClr>
                <a:srgbClr val="1c9a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spcBef>
                <a:spcPts val="799"/>
              </a:spcBef>
              <a:buClr>
                <a:srgbClr val="1c9a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spcBef>
                <a:spcPts val="799"/>
              </a:spcBef>
              <a:buClr>
                <a:srgbClr val="1c9a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spcBef>
                <a:spcPts val="799"/>
              </a:spcBef>
              <a:buClr>
                <a:srgbClr val="1c9a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496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1c9ad7"/>
                </a:solidFill>
                <a:latin typeface="Georgia"/>
              </a:rPr>
              <a:t>RM ettepanek eelarveotsusteks: tegevuskulud</a:t>
            </a:r>
            <a:endParaRPr b="0" lang="en-US" sz="3600" spc="-1" strike="noStrike">
              <a:solidFill>
                <a:srgbClr val="1c9ad7"/>
              </a:solidFill>
              <a:latin typeface="Georgi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24000" y="1413000"/>
            <a:ext cx="8820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c9a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Georgia"/>
              </a:rPr>
              <a:t>Tegevuskulude kasv peab olema väga hästi põhjendatud. 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1c9a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Georgia"/>
              </a:rPr>
              <a:t>RKAS-i objektidel remondikomponendi lisamine ja üleminek turuüürile  (vastavalt võimalustele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1c9ad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Georgia"/>
              </a:rPr>
              <a:t>üürilepingus kokkulepitud kohustuse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1c9ad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Georgia"/>
              </a:rPr>
              <a:t>kooskõlas valitsuse kinnisvarapoliitiliste otsusteg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1c9ad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Georgia"/>
              </a:rPr>
              <a:t>kasutus ja protsessid paremini optimeeritud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1c9ad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Georgia"/>
              </a:rPr>
              <a:t>parem ülevaade kuludes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1c9ad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Georgia"/>
              </a:rPr>
              <a:t>korrashoiukulude  pikaajaline planeerimin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1c9ad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3T11:52:15Z</dcterms:created>
  <dc:creator>.</dc:creator>
  <dc:description/>
  <dc:language>en-US</dc:language>
  <cp:lastModifiedBy>vpold</cp:lastModifiedBy>
  <dcterms:modified xsi:type="dcterms:W3CDTF">2013-04-23T12:34:38Z</dcterms:modified>
  <cp:revision>99</cp:revision>
  <dc:subject/>
  <dc:title>Slide 1</dc:title>
</cp:coreProperties>
</file>